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996B2-DAF4-4826-B2CA-C256DACBDE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9F512-E859-4728-9CED-20F6E2906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09273-A6E0-4766-B566-DF75B3CAE9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9FC-F465-4A84-B314-A0DE59A0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A18-DF85-4457-BED8-04475FA9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8CE-7CA2-4020-952F-A0B23619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1EB-B01D-4A3C-8564-328AB02B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250-402D-47CB-836D-6F10A62C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B47-CB8A-4BF3-9379-97D5B56C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4B4-7441-4589-92A1-3F6937DA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9B3-3109-4541-AE61-5E4D3BEE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B64-5983-4157-A7E1-FDCB0C5C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D12-4473-4653-8B00-EA1357EA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6E9-6014-4791-B763-7D8194C9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CB4-10EB-410A-8DDA-E15A113E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8D143-FD8D-4085-BF25-3A23E306E720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76127-40B8-40FF-ABDA-CA14871E89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0321696905.jpg"/>
          <p:cNvPicPr/>
          <p:nvPr/>
        </p:nvPicPr>
        <p:blipFill>
          <a:blip r:embed="rId2"/>
          <a:stretch/>
        </p:blipFill>
        <p:spPr>
          <a:xfrm>
            <a:off x="1730520" y="0"/>
            <a:ext cx="568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nd Ordin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e US, the Land Ordinance of 1785 divided much of the country into a system of townships and ranges to facilitate the sale of land to the we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wnship: a square 6 miles on each sid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tion: one of 36 pieces of a township 1 square mile eac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temporary Too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PS: Global Positioning  System. Provides reliable location anywhere on Earth. 24 satellites in orbi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mote Sensing: the determination of a quantity by detecting it from a distance eg, the use of satellite-borne instruments to determine the location and amount of resources on Earth's surfa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IS: Geographic Information System. The key is Geocoding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ographers describe place on Earth by identifying its loc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ion: The position that something occupies on Earth’s surf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ponym: simply the name given to a place on Eart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te: The physical character of a pl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tuation: location of a place relative to other pla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thematical Lo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 precise statement of location using a system of measurement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ually from a defined point of origin and using a framework of coordinates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. Mt. St. Helens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atitude and Longitude System: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46 degrees, 15 minutes North Latitud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22 degrees, 10 minutes West Longitud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niversal Transverse Mercator System(UTM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TM Zone - 10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asting 3,082,00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orthing 6,312,000 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ridi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arc drawn between the North and the South po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ocation of each meridian is identified on Earth’s surface according to a numbering system know as longitud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me Meridian: The meridian that passes through the Royal Observatory at Greenwich, England is 0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alle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arallel is a circle drawn around the globe to the equator and at right angles to meridia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umbering system to indicate the location of a parallel is called latitud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g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ltural Landscape: a combination of cultural features such as language and religion, economic features such as agriculture and industry, and physical features such as climate and veget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gional Studies: An approach to geography that emphasizes the relationships among social and physical phenomenon in a particular study are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g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mal Region: (uniform, homogeneous) area within which everyone shares in common one or more distinctive characteris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unctional Region: (nodal) an area organized around a node or focal poi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nacular Region: (perceptual) a place that people believe exists as  part of their cultural identit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tial Associ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gional Integration with Cultu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people care about: language, religion, and ethnicit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people take care of: material wealt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ce A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ltural Ecology: Integrating Culture and Enviro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geographic study of human-environment relationships is known as cultural ecolog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explain relationships between human activity and the physical environment in a region, modern geographers use possibilis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ysical Process: Clima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HAPTER 1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ASIC CONCEP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 geographers describe where things ar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is each point on Earth uniqu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are different places simila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ysic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egetation: Include four major typ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rest biome: trees form a continuous canopy over the ground. Grass may grow beneath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avanna biome: The trees do not form a continuous canopy. Lack of shade allows grass to grow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rassland biome: land is covered by grass; few trees grow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esert biome: although rarely has vegetation, region contains dispersed patch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cale: From Local to Glob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obalization: a force or process that involves the entire world and results in making something worldwide in sc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obalization of Culture brings the largest companies around the worl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ce Distribution of Feat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istribution: the arrangement of a feature in a spa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ensity: The frequency with which something occur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rithmetic Density: the total number of objects in an are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hysiological: the # of persons per unit sustainable for agricultur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gricultural density: the number of farmers per unit of farmlan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entration: The extent of a feature’s spread over sp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ttern: Geometric arrangement of objects in sp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on Between pla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ace time compression: the reduction in the time it takes for something to reach another pl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e decay: when contact diminishes with increasing distance and eventually disappea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FFUSION!!!!!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ffusion is the process by which a characteristic spreads across space from one place to another over tim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arth: The place from which an innovation origina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ypes of Diffusion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location: The spread of an idea throughout physical movement of people from one place to anoth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ansion: snowballing proc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erarchical, Contagious, &amp; Stimul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lture and Economy: rapid diffusion through technology of raw materials, goods, services, and capita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ank You. Conclu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ography is most generically a spatial science. Every place in the world has a unique location or position on Earth’s surface. Geographers work at all scales from local to global which is important to us because few places are totally isolated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ograp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Geography is based on two words. Geo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means “Earth,” and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graphy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ans “to write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re are to broad categories of geography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Calibri"/>
              </a:rPr>
              <a:t>Human Geograph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the study of where and why human activities are located where they are-for example, religions, businesses, and cit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Calibri"/>
              </a:rPr>
              <a:t>Physical Geograph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studies where and why natural forces occur as they do-for example, climates, landforms, and types of veget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eography’s Most important tool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p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map is a 2D or flat-scale model of Earth’s surface, or a portion of i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3" descr="Unknown.jpeg"/>
          <p:cNvPicPr/>
          <p:nvPr/>
        </p:nvPicPr>
        <p:blipFill>
          <a:blip r:embed="rId2"/>
          <a:stretch/>
        </p:blipFill>
        <p:spPr>
          <a:xfrm>
            <a:off x="2286000" y="2701800"/>
            <a:ext cx="48769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 Concepts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ographers use 2 basic concepts to explain why every place is unique-place and reg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ce: a specific point on Earth distinguishable by a particular characteristic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gion: an area of Earth distinguishable by a distinctive combination of cultural and physical featur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 Concep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 basic concepts help geographers explain why these similarities do not result from coinciden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ale: the relationship between the portion of Earth being  studied and Earth as a who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ace: physical gap or interval between two objec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nections: relationships among people people and objects across the barrier of spac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tography: the science of making ma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ales: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 Ratio or Fra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Written Sca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 Graphic Sca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jections scientific method of transferring locations on Earth’s surface to a flat map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ten times cause distor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obinson Proje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Content Placeholder 3" descr="800px-Robinson-projection.jpg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rcator Proje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Content Placeholder 3" descr="773px-Mercator-projection.jpg"/>
          <p:cNvPicPr/>
          <p:nvPr/>
        </p:nvPicPr>
        <p:blipFill>
          <a:blip r:embed="rId2"/>
          <a:stretch/>
        </p:blipFill>
        <p:spPr>
          <a:xfrm>
            <a:off x="1650960" y="1600200"/>
            <a:ext cx="584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23:11:47Z</dcterms:created>
  <dc:creator>SLR McLaren Roadster</dc:creator>
  <dc:description/>
  <dc:language>en-US</dc:language>
  <cp:lastModifiedBy>SLR McLaren Roadster</cp:lastModifiedBy>
  <dcterms:modified xsi:type="dcterms:W3CDTF">2011-04-21T03:46:22Z</dcterms:modified>
  <cp:revision>28</cp:revision>
  <dc:subject/>
  <dc:title>Slide 1</dc:title>
</cp:coreProperties>
</file>